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61C-1E01-4BB4-83BA-90FB28A8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D99-AECD-45DB-8B6B-2D44EE9F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F27-C787-4DED-944F-30598502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6E5-69AB-4387-B334-B755F3E7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A15-863B-4D95-BFFD-570D0AB2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1D2-D0B4-46D2-81C6-BF6B299E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F30-7970-450D-8B37-DA5EFB96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D67-2908-4B4B-BE11-82BE7BBD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FF2-A8C5-4410-9CAA-1E90F181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DBD-810D-4D13-8F18-06A24E9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4FA-C5C6-4741-985B-BD118755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A01-5177-4A14-A863-FAE5AD4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9404-25F2-4AA5-94BF-54802F80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609300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David Shortis 9P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(William McLintock Onus) was born on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cember 1948. He passed away on October 24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95084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34704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141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was the only child of a Scottish mother and an Aboriginal f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two sons named Kenneth, Tiriki and a daughter named Birral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Father Bill 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3024360" cy="189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5661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566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Son Tir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ore 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n Onus was a self taught artist who began as a motor mechanic before making artifacts for his fathers business called Aboriginal Enterprises in Belgrave V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446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ward Winning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is Painting Barmah Forest won Canberra's National Heritage Award in 19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429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ointment to the Australian Council as Chairman of the Artists Management Association in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rded with an Order of Australia for his contribution as an Artist and Ambassad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n Onus"/>
          <p:cNvPicPr/>
          <p:nvPr/>
        </p:nvPicPr>
        <p:blipFill>
          <a:blip r:embed="rId1"/>
          <a:stretch/>
        </p:blipFill>
        <p:spPr>
          <a:xfrm>
            <a:off x="3419640" y="4581360"/>
            <a:ext cx="1739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 of his many          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71880"/>
            <a:ext cx="3611520" cy="28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331308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3097440" cy="275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722240" cy="229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348000" y="1557360"/>
            <a:ext cx="3414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50:18Z</dcterms:created>
  <dc:creator>Davo</dc:creator>
  <dc:description/>
  <dc:language>en-US</dc:language>
  <cp:lastModifiedBy>Davo</cp:lastModifiedBy>
  <dcterms:modified xsi:type="dcterms:W3CDTF">2008-07-29T11:08:49Z</dcterms:modified>
  <cp:revision>3</cp:revision>
  <dc:subject/>
  <dc:title>Lin Onus</dc:title>
</cp:coreProperties>
</file>